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93AC-C07C-4214-8E1E-F246E39A2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E584-261C-4728-9F63-822FCFF7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DC07-60E3-4FE5-96E0-51EF79C4C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135B-B205-4BD1-8DF4-118155EAC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D1FB-7A6E-4FD3-9234-70BE5CB6F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E1017-F57F-48C8-B6AB-6FA1CE68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FF67-38F3-4BC4-9EA4-11D4F6C3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D446-B472-4CA4-AAF7-90FC8608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D703-6354-4FE4-9200-861D6945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14A2-6F5D-41E5-8E2B-3BBA1A7A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52EF-4B6B-4718-A1E8-893923E4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466D-EC21-449C-911B-BE7A9312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98EA-4953-499B-AEBF-3ADE0BA8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7874-12C1-40AF-968F-A179E842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3E01-68F3-4C17-802B-F0F45761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F7D9-3511-4DC6-B50A-C69974F36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CA09-AFFC-40A3-9F52-AD20F1AF6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3264-A5FC-4EEF-AAA7-49A06DE1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170D-8FCF-4414-806D-81D9300E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AE1D-3FF2-4B33-85AE-067EE36A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A1C4-22A6-4C9C-87A7-A128B398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9BC6-1F22-49E9-B248-ABD563E4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AAF3-3EB9-4DFC-A592-C1E66935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B460-D965-41B7-870C-F6063A54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1C47-B511-4339-82F1-5B37AC34B314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ec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971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ec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7BFD-A14D-42CC-96AF-BFE6DE812961}" type="slidenum">
              <a:rPr b="0" lang="en-AU" sz="14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68c7"/>
            </a:gs>
            <a:gs pos="100000">
              <a:srgbClr val="1a2f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Early Childhood Studies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2971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hild Development and Pla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5 stages of social play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 u="sng">
                <a:solidFill>
                  <a:srgbClr val="ffffff"/>
                </a:solidFill>
                <a:uFillTx/>
                <a:latin typeface="Tahoma"/>
              </a:rPr>
              <a:t>Solitary play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– 0-18mths. Play alone with adult nearby; explore environment; adult initiated play – clap hands; aware of other children but interaction is limited / accident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 u="sng">
                <a:solidFill>
                  <a:srgbClr val="ffffff"/>
                </a:solidFill>
                <a:uFillTx/>
                <a:latin typeface="Tahoma"/>
              </a:rPr>
              <a:t>Parallel Play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– 18-30 mths. Play alongside. Awareness but no real attempt to play or communicate together. Play intently, alo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cc17"/>
                </a:solidFill>
                <a:latin typeface="Arial"/>
              </a:rPr>
              <a:t>5 stages of play – cont’d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ssociative pla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2 ½ + - copying other childr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liberate and extended interaction between childr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tended time but limited commun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ginning to watch older childr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cc17"/>
                </a:solidFill>
                <a:latin typeface="Arial"/>
              </a:rPr>
              <a:t>5 stages of play (cont’d)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operative Pla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3 yrs + most children able to play actively toge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cide together what to do and pl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are materials and id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munication establish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lationship evid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cc17"/>
                </a:solidFill>
                <a:latin typeface="Arial"/>
              </a:rPr>
              <a:t>5 stages of play (cont’d)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 u="sng">
                <a:solidFill>
                  <a:srgbClr val="ffffff"/>
                </a:solidFill>
                <a:uFillTx/>
                <a:latin typeface="Tahoma"/>
              </a:rPr>
              <a:t>Competitive play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– 6+ children able to play together in games with ru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Understand that rules games have winn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Understand not everyone can be winn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159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Developmental Stages of play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4470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ortant to match play activities with developmental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ants – simple items that stimulate senses and encourage explo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ddlers – physical activities – mobile and energe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-schoolers – develop new abilities – make things they are proud o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rly primary – longer attention spans – more sustained games - adult 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Types of Play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ontaneous play and structured pl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chool – more structured play – both still importa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 types of play: creative; discovery or exploratory; imaginative or pretend; manipulative; physical; soc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be involved in more than one type of play at a 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reative play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resses ideas or emotions to make something origi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lps children discover properties of materials as well as fine motor develop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courages experimentation and explo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ually satisfying and hence increases self este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d product not important – should always be praised for their effor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Discovery play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ows children to find out about objects – size; shape; colour; texture; u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cts can break – learns to take c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s all senses – sight, taste, smell, touch, hea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y involve climbing a tree, digging in sand, pulling a toy apart or putting a hand in the honey j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Imaginative play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magines to be someone else or somewhere el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Often those around must imagine to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May talk to toys or objects, make up manes using charact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Act out using wo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Helps them understand behaviour and roles eg. Shopping, families, doct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Develop communication and social ski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Allows them to act out fears and fantas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Manipulative play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volves working with the hands in a skilful w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ordinates hands, eyes and br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rns shapes, to sort and think logicall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s fine and gross motor 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nse of satisfaction from achiev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Physical play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dy work or exerc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nning, chasings, crawling, jumping, balancing, ball games, riding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rn muscle control and coordin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 fit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Social play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ying together is social pl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rn sharing, communication, acceptable behaviour, belong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rn consequences of anti-social behaviou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serve oth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rn about relationshi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7:25:38Z</dcterms:created>
  <dc:creator>DEET</dc:creator>
  <dc:description/>
  <cp:keywords/>
  <dc:language>en-US</dc:language>
  <cp:lastModifiedBy>DEET</cp:lastModifiedBy>
  <dcterms:modified xsi:type="dcterms:W3CDTF">2009-06-01T09:03:12Z</dcterms:modified>
  <cp:revision>13</cp:revision>
  <dc:subject/>
  <dc:title>Early Childhood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101033</vt:lpwstr>
  </property>
</Properties>
</file>